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394D-EA3A-426F-B26D-FEC30A288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0CB3-B006-48DE-80B4-E0C64709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0480-D5F0-418E-B54E-E0A0CDD8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6D60-3F38-4B6C-9369-D355A316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581149-B8E8-45EB-A603-FD0003ED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4464D-5DA2-4836-9023-138200BC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0058A-B305-4E15-A44F-01574365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36763-547E-4E42-9F25-00E10F6E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958051-AA02-4B25-A5CF-FE43049C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889962-D18E-4335-A8A7-59CC8093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D103C-64C3-4538-BF04-9B280481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B368-64A0-4FB1-8E81-CA3869D8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47953-CF23-4143-B323-1B285BD8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02ADD-FCD0-4AD4-88D6-96173B81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4776C-72A5-4418-81B7-42CF8E24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64B67-8BD5-44FC-B5F8-1BF38C85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A28840-F013-4FC3-A5A5-1E3E11EF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0E52-CF00-495E-A06E-0AF8C594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C2EF-0F51-4D0E-B9DA-A204159D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CA98-C59F-43AF-89DA-920DF255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34A3-EFDE-46DE-94A1-7DE41C0F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F20C-7F8C-40EE-9766-7880CFA0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E69E-25ED-4590-8B75-BEA54D7C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5AA5-9231-4519-AD5B-17F7C57D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9E01D-42AB-4A40-A4E5-43442A44E243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5456-207F-44CC-AA1C-9FC2F30C5430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915920"/>
            <a:ext cx="8640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Rounded MT Bold"/>
              </a:rPr>
              <a:t>Techniques of morphing to stimulate the teaching with technology</a:t>
            </a:r>
            <a:br>
              <a:rPr sz="32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Examples within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Rounded MT Bold"/>
              </a:rPr>
              <a:t>the TI N’Spire environment and Cabri 3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486864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ean-Jacques Dah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IREM of Toulo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Paul Sabatier University Toulouse Fr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jjdahan@wanadoo.f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08000" y="115920"/>
            <a:ext cx="6840360" cy="1185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034760" y="334800"/>
            <a:ext cx="21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July 1st-5th, 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Rounded MT Bold"/>
              </a:rPr>
              <a:t>Krems AUST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115920"/>
            <a:ext cx="2195640" cy="1187280"/>
          </a:xfrm>
          <a:prstGeom prst="rect">
            <a:avLst/>
          </a:prstGeom>
          <a:solidFill>
            <a:srgbClr val="ffff99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surface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the previous techniqu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2708280"/>
            <a:ext cx="8964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military perspective in 2D DG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Cabri 2 Plus and Graphs &amp; Geometry of TI-N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surface pm.fig    08 MORPHING SURFACES.tns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the 3D graphing too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                </a:t>
            </a:r>
            <a:r>
              <a:rPr b="0" lang="fr-FR" sz="2400" spc="-1" strike="noStrike">
                <a:solidFill>
                  <a:srgbClr val="ffffff"/>
                </a:solidFill>
                <a:latin typeface="Arial Rounded MT Bold"/>
              </a:rPr>
              <a:t>(TI-N’sp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8 MORPHING SURFAC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Fourier sums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915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n integ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n controlled as a real number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9 MORPHING FOURIER SUM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132000" y="1125360"/>
          <a:ext cx="2592360" cy="10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1125360"/>
                    <a:ext cx="25923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delling a floating fla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120400"/>
            <a:ext cx="8229600" cy="44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First modelling with Cabri 3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Flag Cabri 3D.cg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Improving it with the use of the 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10 FLAG MODELLING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771640" y="2924280"/>
            <a:ext cx="3240360" cy="21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Cabri3ActiveDoc1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6297840" cy="585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5880" y="6324480"/>
            <a:ext cx="68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rphing triangle polygone.cg3       morphing carre carre.cg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7840" y="1771560"/>
            <a:ext cx="785016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ank you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2715480" y="5297400"/>
            <a:ext cx="61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jjdahan@wanadoo.f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3907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282600"/>
            <a:ext cx="9144000" cy="621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560040" y="6524640"/>
            <a:ext cx="144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1 TITLE TIME.t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6868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From graphs theory to Cab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2420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55800" y="6375240"/>
            <a:ext cx="259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ahoma"/>
              </a:rPr>
              <a:t>THEORIE GRAPHES MINI.fi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" name="CabriGeometreIIPAX1"/>
          <p:cNvGraphicFramePr/>
          <p:nvPr/>
        </p:nvGraphicFramePr>
        <p:xfrm>
          <a:off x="395280" y="1125360"/>
          <a:ext cx="8280360" cy="518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CabriGeometreIIPAX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125360"/>
                    <a:ext cx="8280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Net of a cub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Cabri3ActiveDoc1" descr=""/>
          <p:cNvPicPr/>
          <p:nvPr/>
        </p:nvPicPr>
        <p:blipFill>
          <a:blip r:embed="rId2"/>
          <a:stretch/>
        </p:blipFill>
        <p:spPr>
          <a:xfrm>
            <a:off x="1476360" y="1197000"/>
            <a:ext cx="58323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1=2=3 theorem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Cabri3ActiveDoc1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59054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abri3ActiveDoc1" descr=""/>
          <p:cNvPicPr/>
          <p:nvPr/>
        </p:nvPicPr>
        <p:blipFill>
          <a:blip r:embed="rId2"/>
          <a:stretch/>
        </p:blipFill>
        <p:spPr>
          <a:xfrm>
            <a:off x="1332000" y="260280"/>
            <a:ext cx="6264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 Rounded MT Bold"/>
              </a:rPr>
              <a:t>Initial techniques </a:t>
            </a:r>
            <a:br>
              <a:rPr sz="4000"/>
            </a:br>
            <a:r>
              <a:rPr b="0" lang="fr-FR" sz="2800" spc="-1" strike="noStrike">
                <a:solidFill>
                  <a:srgbClr val="ffffff"/>
                </a:solidFill>
                <a:latin typeface="Arial Rounded MT Bold"/>
              </a:rPr>
              <a:t>(using a special invariant in Cabri construction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2987640"/>
            <a:ext cx="896472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An example to show this property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2 INITIAL IDEA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Morphing segments onto arcs or seg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3 INITIAL TECHNIQUE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with graph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here graphs are squares, circles, astroid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2769840"/>
            <a:ext cx="896472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functions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04 MORPHING CURVES OF FUNCTION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Using parametric and polar func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5 circle square astroid param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</a:t>
            </a:r>
            <a:r>
              <a:rPr b="0" lang="it-IT" sz="1200" spc="-1" strike="noStrike">
                <a:solidFill>
                  <a:srgbClr val="ffffff"/>
                </a:solidFill>
                <a:latin typeface="Tahoma"/>
              </a:rPr>
              <a:t>06 morphing square circle polar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Rounded MT Bold"/>
              </a:rPr>
              <a:t>Morphing numbers </a:t>
            </a:r>
            <a:br>
              <a:rPr sz="4400"/>
            </a:b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(with barycentres, dilations, slide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2914560"/>
            <a:ext cx="896472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1 onto 3 (basic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2 onto 4 (advanced techniqu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 Rounded MT Bold"/>
              </a:rPr>
              <a:t>                                                             </a:t>
            </a: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07 MORPHING NUMBERS.t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10:02:56Z</dcterms:created>
  <dc:creator>DAHAN Jean-Jacques</dc:creator>
  <dc:description/>
  <dc:language>en-US</dc:language>
  <cp:lastModifiedBy>DAHAN Jean-Jacques</cp:lastModifiedBy>
  <dcterms:modified xsi:type="dcterms:W3CDTF">2014-09-22T16:34:01Z</dcterms:modified>
  <cp:revision>16</cp:revision>
  <dc:subject/>
  <dc:title>Techniques of morphing to stimulate the teaching with technology Examples within  the TI N’Spire environment and Cabri 3D</dc:title>
</cp:coreProperties>
</file>